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33B-EC8F-4CB4-BA40-4D5A7522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839-7420-4218-B855-AF19DDE6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6BEA6-86A4-487D-B7BD-8E0D38F9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A38E0-1960-4468-A0FE-EC66380E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FD72B-1CF5-45FD-82DD-B0413797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48951-A672-4914-BA83-1CF93F19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5B2C6-4EB3-4508-BB11-147131EF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E3BE9-9D85-41D6-85F2-CEB85B90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30CF0-3925-40E0-A8FB-627AC4F8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4B04F-43BA-4449-A3BE-5BFBB592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1C827-D2B3-49A0-A185-5A752ECC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F425A-11A7-4FBB-9AFE-570CACB3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64D-D16E-4E00-94B1-CEB7480F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0867B-B6AF-4B33-9B82-CE52B8BD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A90F1-5532-421D-BA78-4240D7E9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6F09D-14A3-4FE0-9EFD-F274B9E4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F01D7-DD14-4CFE-91CE-F3CF5D88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A7D54-5B26-490D-A509-C39CD467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F2677-BCAD-4F11-B17A-B549D0F1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0D689-202C-437C-8B41-07E13D7F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FDCF7-D9EA-45E0-9A2A-5B563D32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AF16F-085C-4CC6-AFE5-A39FBD02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821AC-5E0A-431C-957C-0E13F85F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25F-138C-46AB-BAAC-E4A1937F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B8795-2D56-419A-A0CC-4FAB7AAF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5A951-0E59-41AA-AD93-2BCDA2DE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8661F-206F-4BBA-B619-B088546D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E92C4-CC98-46B4-9811-C8A5CE51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1326C-5E79-43A4-87FF-CEBBBE8B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D11A4-2FF2-415F-A9B6-D6D2C75C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0FD10-1529-43BF-80C8-CB8E886D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C7875-33DF-4411-AC77-901BCCA5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5C703-E7F5-4B5F-8D53-853234E8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B7D25-AE20-47DF-8D6B-8F4DDA94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5235-10A4-4E30-9C43-E67D9EA3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0932B-EF98-4B60-B921-B143F696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F3A27-B34C-48A0-803D-5ECEEFCE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A34D4-D73B-4380-BE1D-50F198F4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BF701-6A6D-40AD-80A5-E99B5C47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EE305-4D52-42DF-A58A-E89C1FD2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248B9-334D-4B2B-A503-029486B4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3CE93-ACBB-4064-8DF3-6703BDAE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95292-565D-420D-9926-AD5E684A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8D779-DC0F-454C-8378-1AC43D89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7EE04-A8D2-4A3A-B0B5-92618879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EF94-142F-4632-BC85-49D76517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232BD-07F9-440E-A184-AA33B069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596AE-580D-4A88-ADC5-F12A7FC0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97BA0-EF53-4184-AE00-A0138EAC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467BB-6D3D-436F-81FC-2332D15E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B9C98-BC71-4079-98B0-D697E970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234C2-381F-43FA-83E2-83C493B8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C4ABD-6AFF-481E-B88C-9B7C8166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B4933-5C34-47BF-B0C4-AD51658A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84C26-4FCF-4A77-93F9-8B336267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2B15C-595A-4987-935F-CC96E6AC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DD75-7D49-456A-9C63-FC1FEA96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C68E4-2BE3-4982-870C-C58F847B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CCD7D-8BA7-4941-8116-02FC732A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2DC9C-009B-43B9-BAFF-38DFD0F0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F5BF4-0C0F-439E-BE89-D0F03682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C62A3-1413-4C33-B0FA-C9A3A377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CAA72-84B1-4D0A-9D70-F4629605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480E7-8EC8-4319-AB86-B15D9A14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08009-D5FC-4E91-881D-5EBB8C49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EDC6B-0D47-496F-BE39-7B8FB48F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0F38D-E3FB-4798-A3D1-9AAEC403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B2BB-6643-42C6-8A25-55C7701A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9ECA9-C6AA-44BA-BE91-E946020E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7AB70-AAEA-4FAC-9D56-42750160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34F02-4249-421E-9DA5-F8FFE349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01B91-B428-4381-A504-067C4AB6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A2961-6988-4C28-9DE5-34364D03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342EB-6A0C-4D5B-AD86-3795300A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0A6B0-3950-43F5-9E41-5EE08A5E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9DE2E-4D40-450E-B42B-35D0DB47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7EE85-8511-4659-99A2-53AACFBA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7F236-92FC-45DE-BCAA-F66B4BE3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49B8-8C66-41CA-879F-1CFC993E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5AF3B-E1A9-4121-BF34-53B3D9CE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FA51B-82AE-4DEF-BE96-7B1B5DA1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D80FE-75F9-484B-8F49-794B00BF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2F7F8-3055-4A59-8100-2259FB38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9A325-28ED-494B-AAF0-5AF422B2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AB6E1-6975-413D-B2A9-921BE394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AC482-A3CB-405B-ACEC-98ECEB5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248EB-AA14-4857-B5CB-64A17625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DE333-3802-43EE-84BF-20B64BB9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9673B-8C7A-4614-BBDC-A60005DF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8334-791D-4BE6-A91A-C8AFF703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2A0472-958E-43B7-8106-502F3C26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33E8B3-E82F-4C33-B164-B88AEE5A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51B97-9099-42D7-81D2-3F4B9EAD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50C8E6-3F27-4302-97DA-E3C818ED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10B8DF-8CDD-4262-BEF4-65C25EED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EAA379-D503-4C47-BE59-CB5820C2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8F226D-C14B-470B-B939-E3F2DE07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D621D-1908-41DE-8EF1-04DE46D0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3358F-16CF-453F-8C7F-BD41CFAF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8DCB6-73B8-4034-9AC5-913CC21C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115C-C323-4FED-8F02-8FF26095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C1732-4A26-46A8-A9D5-0ED88C86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26FDA-4A87-4B59-9BF7-49E99972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96FD3-EC1E-46FF-9F20-2342B54A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EC4C5-A89A-4ADD-8DDE-9948FDEB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1CAC0-17BF-4291-AA7E-42E9B03B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FE7B4-B18E-40FD-A63E-788AC86C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30638-3828-4B95-B48B-A8DF8A93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018C3-AFAC-4F34-8EE7-04B08246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B4FFB-44FD-4F13-997E-BCAC5AF7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DD0C3-0B58-497A-8CAC-8011BFC9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07D-0410-42D4-A63C-BCCEDB13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1E7B-B293-4FEC-8779-7F695F5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899F7-CC61-4CBD-BB9B-B4F2DAEE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17BF1D-258B-4842-BA14-6E2939CA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DC5C3-25DA-4E52-8151-2AAE6F4E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6F99DE-66B3-4EC8-8A66-DC9C172E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74B415-0D0B-4627-A79B-E3325726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444A25-D615-4BA0-8A69-12DEB076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FF7B1-4CA4-400E-B216-34303733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E93C1-D663-40F6-9647-4CF3FAE4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44A3B-1D07-4115-AF4F-19805F35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20BB5F-D852-4604-9804-BCB87330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83B7-D451-48A1-98F9-4AD6B077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569065-6FA9-412E-930E-5174FF3D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2160B-EFE7-4D4B-B038-66C4B703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78264-076C-4D7F-9DAC-589DE698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8734D-94B6-4659-8CE8-695025B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1CDDC-9679-4765-A0A8-C7453C39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FF51DC-D8FE-47D3-9624-7288F15B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6CE3A1-D80A-41A8-B8AC-B1DD27AD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09A75-B4DD-4EC3-A2B6-E191237D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2FBA4-80FE-4B9C-9E93-51B8F4C6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F14AB4-DC11-4C27-BAB6-72A8E3EF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CE09-2792-4F53-93F9-6BAC1FEE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474171-71D1-4A09-AFAB-06102D93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34465-E337-4433-AD67-1018CD17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F5636-395B-4D79-B3C6-55D49D5B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2A592A-9E88-47B9-B531-EBB5706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04D33-28F3-4FC2-8DA5-A3FC19C0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82C177-139B-4E68-9992-29AEDEA4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24C35-7B28-49A6-874D-984F2FE0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32ABE-1043-4991-B753-BDAC6712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920D16-F29C-4AF5-BDF1-F62C163A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7C026D-258B-4220-ACAC-D7846381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C569-78A1-4CAF-A4A9-2E3A13D7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2F2192-327B-4379-9EC9-5BCEC7F9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85A77-D931-485D-B4EF-A82C7EFE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C5143C-B3CD-4334-9010-8F25900E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FAD14-43C7-479F-844A-21C8339B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8FEAA9-226F-44F4-82A6-8DE2B53E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C68947-F682-43EB-A668-00610FF6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892299-376B-4D98-8531-568F2593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A01DA5-97E6-4425-B64C-EED4BCCE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BE266-D268-4F08-828B-C525B846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910AB-3F75-489F-8631-21AEC923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9E99-B0E8-414F-BEE6-E02D9F85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80F40E-B4F4-4CB3-AC85-341EC950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F3810F-677B-4DFE-96DC-90B342D9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05ADAD-7A3C-494B-8B37-807CF2EA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BC0A0E-BBF5-4DFC-93AC-158E0D50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2B37CB-444A-4110-9A89-E8D63ABC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2DEFCA-5686-4DBE-8DEB-316EDDFA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C7D540-63E3-4BF1-B532-CB34AEC7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BC7352-B87E-43CF-BEBC-A0224EB6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4EBC86-CA42-4D7D-B0EC-7A2C05E0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62364B-9C4C-4201-8960-9F12A810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08974-0988-4285-AE8B-BCCF1CB7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1CC17E-715A-4610-8F65-63765A93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B523D4-C01D-446A-837A-F5F09C6A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A2355D-5078-411F-854E-5189D8CB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38C4-3271-4B3E-8382-6D30D63A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4429A-2A46-4881-B2F6-17196527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0437-F1C1-4239-A610-C7FCC1D7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798D-31B7-45DB-A571-B706692F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942-7207-4B90-BA9C-D0502365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D67A-1EDA-40D2-AB57-6CA0B1F4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BEFA-5B8E-4D0E-89AB-0C71C51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634D-56B8-4D90-9640-FFD686F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A9E21-3CC3-440E-B064-3C558CE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8D98B-EBB6-4EEF-B77F-870098E7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5003-F7F6-41C6-A093-9F628A29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9608-101A-41C1-AC8D-38055081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92D72-5782-4780-8F76-0661CFD1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7EE0-EF04-48AB-88D2-E67E25B2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4AEA-59B8-4FF2-980D-AE2702B3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D8F-EEA9-4D00-A594-7251FF32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F34C1-74F7-473D-9F4F-390BA218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A31CC-64C5-4016-8728-A5771C16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A7212-0BC5-4DFB-AB3B-02802ED1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AEC27-703E-4064-88D8-6BA2032B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552E3-BF1C-46FA-BFA9-6C983104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A3BD3-51A0-4ACF-BF31-A514EF6B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D92AF-E163-424C-8A3A-01118694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7D76A-D251-4954-99AE-7A371C74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7D965-13C6-4F88-8F50-F605BDB5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BD5F5-D576-4BCF-AD94-42D4E67D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EE5-5413-452B-968C-A1AB4DB3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D883-0A61-4DDB-A4A5-C1424628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BE649-A899-45B2-BE13-A30214DB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096C-97E6-4F0E-AA10-C5CB08DB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533DD-303C-4581-82E8-0AC5DA68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3A32A-52AE-4648-A94B-C3018754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AB514-24F6-470F-82C4-138DCA48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B6E09-4C83-442A-A5A6-AFBACC20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A2C00-36C3-4EC1-AAF3-B5BAA6EF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840CC-2204-4049-9F8C-74FD928F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540B2-8422-43CF-91E4-B2BB666A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CB1-2B83-4158-A225-9FCF4D63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6862-A03B-4446-B01D-3046E62B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45B76-6EF5-427B-AFEB-052FE732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EBE72-1A8D-403F-BA86-7F5A80D6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A7931-5216-4359-8828-BB9F3B41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EEDDE-1201-4FFE-9D81-6213D059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2516-28BF-4322-A994-8F8236EB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CCA02-0FE3-4FD5-A0D3-5E44BFFD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B6CF7-DB31-4FF8-A027-36CA55A0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42D6A-88E2-46A9-AC8A-D425232E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1204B-6D0C-4A59-8BA6-5BC90EBB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E62-2A4E-441B-8C00-F4DA800E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57303-9FEA-48F8-91DF-09DDE232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A02A1-89AA-47CA-BC79-8EB41D1F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73958-A382-4BFC-B2B2-78638275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28B4D-5B5D-49FC-9C48-7FD1AD1B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E337-F235-4905-8A62-46D3ACB0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9219E-7540-4A77-BED3-6FB2AB50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CD79E-7A82-426F-9206-65FC73B9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A9C2F-7CD4-4D8E-B848-3B630429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37F60-DBFC-4233-8510-DAA51F2C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637B3-9062-46DE-97D9-F64F940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7C1-219A-4A8E-865A-9BB348B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81518-1C57-4228-8A80-2AF4BBA1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951C5-4C7B-4C0C-BCE4-253BEF26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15680-BB17-42E4-B02A-A0336A80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223E5-5E54-4E6F-8171-11512E01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A0827-EFAE-4427-A66C-43016EC6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41FDE-FFD4-40D5-A81D-093DA695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E0082-BCBC-4F0C-896D-C9277554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04955-2863-4B2C-B11E-54843DAD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B005A-2FC5-4DD5-A9BF-7444AB9B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C0BE2-78DC-4EAD-92BC-FEFE1864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B4F-A033-485A-A584-0AD13B4D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34AAB-04E0-4C06-8DA9-092E0D0C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DDE4B-E456-4E38-88EB-5331DA01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DA8BF-848A-493B-99A3-DB4F65D5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A814A-0217-4BDB-BCB8-C40293B5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C92AA-8697-4663-9F16-D4447D28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A30BC-027D-43A7-A34B-8AABCDE0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5AE4D-ACB3-44FB-958E-AAB189E0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5CAFB-C2ED-4385-8D37-6C01C2B9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DDFFF-1EBE-4623-A91E-42E88F77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5AC3E-7BD7-4F18-A02F-A18BAA82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DF80-9567-4312-AE11-423932EA3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B551-C913-4205-A3EB-351D0FD47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CA1A-E9A2-4123-A39D-53E5974440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BE7F-343C-493A-81BE-6040B08DD1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026E-5250-4073-8733-9ECBA18B30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AF69-C63D-4869-955E-A37317B6CD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B08C-830F-4303-A7E5-65C85D4F4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A5D1-4FA6-40B9-9E40-861CC02828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C2FF-5E4A-4A37-9A95-35B45BBAE0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3DAC-E107-4604-B0F7-050CAB60E7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CEC1-90AD-4000-BED2-60C223667D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4EDD-2089-4435-87C6-4E2517828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2515-1E88-460E-9BE6-711FFA8B8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0FE9-C549-4545-A29D-B511540713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E7E2-48D7-4087-AFC2-04A4938540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FFB9-4039-4E8C-B2DE-E718266341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E0BE-E4B6-4B35-B193-7523065DB8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F3AF-0919-4FDF-9BA1-D5C99E48A7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2874-F571-446B-B0BA-FD6E2D921A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CB95-68D9-483D-8814-BE3FE67830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D19A-B3AE-463F-8C84-F2F4F0D51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8E13-BF77-4936-98D6-D876847F1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E570-9B1E-4392-9844-EC5C1B2398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A478-19F2-494E-85B9-D6F3E2AAFC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41A8-D9AF-4EF2-A71B-B9573CE8CF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3152-1FDB-4B8E-878D-34BB2D7C06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E3BA-54C5-4D63-9650-58275468A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2B41-DB3B-47EF-8B42-CCCDDCC1CA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D957-78AE-4032-B4D1-78BD82D9C4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44F0-51BB-4834-BE20-2214A5F5B2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7E58-D8AD-4CEB-9D09-585FDCD4EB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B9BE-0E72-442D-A200-0AABF800A0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555D-28AF-4457-B24A-957162E347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382C-6EFC-45C1-AF1A-13D00A371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FD31-79BB-46B0-BF53-1800BC2116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429B-E650-4A99-AAF4-91BAAACCD0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7304-CAC3-49F4-834D-39591B47A6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6245-3E63-4454-9BDD-CF1DB1F1F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AE45-95DE-4DF8-9780-33159874E7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043B-2FC7-489F-88D8-D16517CCDB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81000" y="1916280"/>
            <a:ext cx="7182000" cy="6858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862280" y="3048120"/>
            <a:ext cx="54194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2231" descr=""/>
          <p:cNvPicPr/>
          <p:nvPr/>
        </p:nvPicPr>
        <p:blipFill>
          <a:blip r:embed="rId1"/>
          <a:stretch/>
        </p:blipFill>
        <p:spPr>
          <a:xfrm>
            <a:off x="590400" y="1290600"/>
            <a:ext cx="7963200" cy="42768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1547640" y="4897440"/>
            <a:ext cx="67694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69633" descr=""/>
          <p:cNvPicPr/>
          <p:nvPr/>
        </p:nvPicPr>
        <p:blipFill>
          <a:blip r:embed="rId1"/>
          <a:stretch/>
        </p:blipFill>
        <p:spPr>
          <a:xfrm>
            <a:off x="890640" y="2362320"/>
            <a:ext cx="7362720" cy="21333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1187280" y="3875040"/>
            <a:ext cx="67694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图片 68609" descr=""/>
          <p:cNvPicPr/>
          <p:nvPr/>
        </p:nvPicPr>
        <p:blipFill>
          <a:blip r:embed="rId1"/>
          <a:stretch/>
        </p:blipFill>
        <p:spPr>
          <a:xfrm>
            <a:off x="795240" y="1052640"/>
            <a:ext cx="7553520" cy="2124000"/>
          </a:xfrm>
          <a:prstGeom prst="rect">
            <a:avLst/>
          </a:prstGeom>
          <a:ln w="0">
            <a:noFill/>
          </a:ln>
        </p:spPr>
      </p:pic>
      <p:pic>
        <p:nvPicPr>
          <p:cNvPr id="980" name="图片 68610" descr=""/>
          <p:cNvPicPr/>
          <p:nvPr/>
        </p:nvPicPr>
        <p:blipFill>
          <a:blip r:embed="rId2"/>
          <a:stretch/>
        </p:blipFill>
        <p:spPr>
          <a:xfrm>
            <a:off x="276120" y="3586320"/>
            <a:ext cx="8591760" cy="22190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3"/>
          <a:stretch/>
        </p:blipFill>
        <p:spPr>
          <a:xfrm>
            <a:off x="4543560" y="1614600"/>
            <a:ext cx="892080" cy="5061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4"/>
          <a:stretch/>
        </p:blipFill>
        <p:spPr>
          <a:xfrm>
            <a:off x="7581960" y="1557360"/>
            <a:ext cx="892080" cy="5065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5"/>
          <a:stretch/>
        </p:blipFill>
        <p:spPr>
          <a:xfrm>
            <a:off x="4716360" y="2147760"/>
            <a:ext cx="892440" cy="506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6"/>
          <a:stretch/>
        </p:blipFill>
        <p:spPr>
          <a:xfrm>
            <a:off x="7581960" y="2205000"/>
            <a:ext cx="892080" cy="5065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7"/>
          <a:stretch/>
        </p:blipFill>
        <p:spPr>
          <a:xfrm>
            <a:off x="2050920" y="4178160"/>
            <a:ext cx="892440" cy="5065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8"/>
          <a:stretch/>
        </p:blipFill>
        <p:spPr>
          <a:xfrm>
            <a:off x="5435640" y="4135320"/>
            <a:ext cx="892080" cy="5065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9"/>
          <a:stretch/>
        </p:blipFill>
        <p:spPr>
          <a:xfrm>
            <a:off x="8086680" y="4149720"/>
            <a:ext cx="892080" cy="5065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0"/>
          <a:stretch/>
        </p:blipFill>
        <p:spPr>
          <a:xfrm>
            <a:off x="2209680" y="4724280"/>
            <a:ext cx="892440" cy="5065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1"/>
          <a:stretch/>
        </p:blipFill>
        <p:spPr>
          <a:xfrm>
            <a:off x="5594400" y="4724280"/>
            <a:ext cx="892080" cy="5065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2"/>
          <a:stretch/>
        </p:blipFill>
        <p:spPr>
          <a:xfrm>
            <a:off x="8099280" y="4724280"/>
            <a:ext cx="8924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43080" y="1185840"/>
            <a:ext cx="8458200" cy="4486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780000" y="3889440"/>
            <a:ext cx="1944360" cy="506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780000" y="4522680"/>
            <a:ext cx="1944360" cy="506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211640" y="5229360"/>
            <a:ext cx="19447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819000" y="2228760"/>
            <a:ext cx="7506000" cy="2400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5219640" y="292428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7093080" y="292428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3521160" y="3962520"/>
            <a:ext cx="6476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76801" descr=""/>
          <p:cNvPicPr/>
          <p:nvPr/>
        </p:nvPicPr>
        <p:blipFill>
          <a:blip r:embed="rId1"/>
          <a:stretch/>
        </p:blipFill>
        <p:spPr>
          <a:xfrm>
            <a:off x="747720" y="1000080"/>
            <a:ext cx="7648560" cy="485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194436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4140360" y="2205000"/>
            <a:ext cx="194436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3924360" y="2867040"/>
            <a:ext cx="1944720" cy="506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3924360" y="4149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5781600" y="41497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2268360" y="5200560"/>
            <a:ext cx="64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262080" y="876240"/>
            <a:ext cx="8619840" cy="5105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4284720" y="2924280"/>
            <a:ext cx="1295280" cy="5061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948360" y="2954160"/>
            <a:ext cx="1079640" cy="506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4067280" y="3587760"/>
            <a:ext cx="1296720" cy="50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6804000" y="3573360"/>
            <a:ext cx="1079640" cy="506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4067280" y="4869000"/>
            <a:ext cx="1296720" cy="5061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6804000" y="4869000"/>
            <a:ext cx="1079640" cy="5061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8"/>
          <a:stretch/>
        </p:blipFill>
        <p:spPr>
          <a:xfrm>
            <a:off x="4226040" y="5487840"/>
            <a:ext cx="1584360" cy="506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9"/>
          <a:stretch/>
        </p:blipFill>
        <p:spPr>
          <a:xfrm>
            <a:off x="7064280" y="5516640"/>
            <a:ext cx="11797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7352" descr=""/>
          <p:cNvPicPr/>
          <p:nvPr/>
        </p:nvPicPr>
        <p:blipFill>
          <a:blip r:embed="rId1"/>
          <a:stretch/>
        </p:blipFill>
        <p:spPr>
          <a:xfrm>
            <a:off x="666720" y="1528920"/>
            <a:ext cx="7810560" cy="3800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4859280" y="2752560"/>
            <a:ext cx="2233800" cy="506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411280" y="3429000"/>
            <a:ext cx="1008360" cy="506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4859280" y="4076640"/>
            <a:ext cx="2233800" cy="506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2268360" y="4724280"/>
            <a:ext cx="1008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6324" descr=""/>
          <p:cNvPicPr/>
          <p:nvPr/>
        </p:nvPicPr>
        <p:blipFill>
          <a:blip r:embed="rId1"/>
          <a:stretch/>
        </p:blipFill>
        <p:spPr>
          <a:xfrm>
            <a:off x="900000" y="1895400"/>
            <a:ext cx="7344000" cy="30672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4716360" y="2549520"/>
            <a:ext cx="2016360" cy="5065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2050920" y="3141720"/>
            <a:ext cx="1513080" cy="506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4572000" y="3716280"/>
            <a:ext cx="2016000" cy="506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1906560" y="4308480"/>
            <a:ext cx="15130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5300" descr=""/>
          <p:cNvPicPr/>
          <p:nvPr/>
        </p:nvPicPr>
        <p:blipFill>
          <a:blip r:embed="rId1"/>
          <a:stretch/>
        </p:blipFill>
        <p:spPr>
          <a:xfrm>
            <a:off x="228600" y="781200"/>
            <a:ext cx="8686800" cy="5295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4830840" y="3673440"/>
            <a:ext cx="180000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804000" y="3645000"/>
            <a:ext cx="1944720" cy="5061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2411280" y="4522680"/>
            <a:ext cx="216072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788000" y="4522680"/>
            <a:ext cx="180000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2484360" y="5402160"/>
            <a:ext cx="2158920" cy="506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6761160" y="5388120"/>
            <a:ext cx="194328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4276" descr=""/>
          <p:cNvPicPr/>
          <p:nvPr/>
        </p:nvPicPr>
        <p:blipFill>
          <a:blip r:embed="rId1"/>
          <a:stretch/>
        </p:blipFill>
        <p:spPr>
          <a:xfrm>
            <a:off x="576360" y="770040"/>
            <a:ext cx="7991280" cy="5972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4413240" y="966960"/>
            <a:ext cx="1800360" cy="5061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6415200" y="907920"/>
            <a:ext cx="1901880" cy="506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1979640" y="1801800"/>
            <a:ext cx="223200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6415200" y="1787400"/>
            <a:ext cx="1901880" cy="506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1994040" y="2679840"/>
            <a:ext cx="2232000" cy="5061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4327560" y="2665440"/>
            <a:ext cx="1901880" cy="506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8"/>
          <a:stretch/>
        </p:blipFill>
        <p:spPr>
          <a:xfrm>
            <a:off x="1979640" y="3529080"/>
            <a:ext cx="2232000" cy="506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9"/>
          <a:stretch/>
        </p:blipFill>
        <p:spPr>
          <a:xfrm>
            <a:off x="4356000" y="3573360"/>
            <a:ext cx="1901880" cy="5065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0"/>
          <a:stretch/>
        </p:blipFill>
        <p:spPr>
          <a:xfrm>
            <a:off x="611280" y="5618160"/>
            <a:ext cx="8064360" cy="506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1"/>
          <a:stretch/>
        </p:blipFill>
        <p:spPr>
          <a:xfrm>
            <a:off x="395280" y="6222960"/>
            <a:ext cx="8064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34:3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